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258B-925A-4C8E-ABC1-B29AD85D3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3372-1BCB-4379-AAFA-487208FA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0113-7A17-4399-9297-DD51FB401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4C22-84D9-48F0-96DC-7D4AC2FFD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D368-C425-4F00-A967-56015A60E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64E3-11A5-428A-B646-BAA57214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B764-8870-4A5A-82E9-CAE47699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B6CD-B64B-4E97-8E63-CA620FEE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B9F5-A929-4191-813B-BB28DEB3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F3C8-03EF-4C47-8C19-0657C75F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9303-F75E-4DF2-9E6D-445592C5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BF62-AEBA-48A8-B76F-DA46616E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3ED4-5193-4964-887F-205D86B9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98E0-2151-4ABD-9FC2-09931759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FF00-10A0-4BE6-B711-806F926F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261F-AA86-493A-811A-0D2BE0524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E453-877B-4A9B-AFDA-24F3D117F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360D-59CF-475D-9CB8-1B117138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211D-ACC7-471B-953C-D2BE4D1B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531A-BDF2-487A-B757-E7D5E5F0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4AB3-FA85-422D-B42D-3A490283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97F9-B3E0-46CF-BC9D-4850BE6B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A9D6-B3F5-4DFA-8CF1-ED42666C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4E96-C949-4CAD-9ED4-AAEEF321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E212-A088-4B3B-8886-0C313E9F0B8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D870-D44F-4437-B175-1B20789A750F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Comic Sans MS"/>
              </a:rPr>
              <a:t>How is Christmas celebrated around the world?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Picture 4" descr="MPj04237240000[1]"/>
          <p:cNvPicPr/>
          <p:nvPr/>
        </p:nvPicPr>
        <p:blipFill>
          <a:blip r:embed="rId1"/>
          <a:stretch/>
        </p:blipFill>
        <p:spPr>
          <a:xfrm>
            <a:off x="2843280" y="3645000"/>
            <a:ext cx="3039840" cy="2431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cc"/>
                </a:solidFill>
                <a:latin typeface="Tahoma"/>
              </a:rPr>
              <a:t>Australi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In Australia, Santa's sleigh is pulled by eight white kangaroos. 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Christmas dinner is eaten outdoors and is followed by a visit to the beach or a game of cricket.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8" descr="0524_D74"/>
          <p:cNvPicPr/>
          <p:nvPr/>
        </p:nvPicPr>
        <p:blipFill>
          <a:blip r:embed="rId1"/>
          <a:stretch/>
        </p:blipFill>
        <p:spPr>
          <a:xfrm>
            <a:off x="5796000" y="1484280"/>
            <a:ext cx="1506600" cy="2089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Choice and experience when you tour"/>
          <p:cNvPicPr/>
          <p:nvPr/>
        </p:nvPicPr>
        <p:blipFill>
          <a:blip r:embed="rId2"/>
          <a:stretch/>
        </p:blipFill>
        <p:spPr>
          <a:xfrm>
            <a:off x="5364000" y="386568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Switzerland</a:t>
            </a:r>
            <a:r>
              <a:rPr b="0" lang="en-GB" sz="3600" spc="-1" strike="noStrike">
                <a:solidFill>
                  <a:srgbClr val="ffffcc"/>
                </a:solidFill>
                <a:latin typeface="Tahoma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In Switzerland, during the holiday season the Star Singers (Sternsingers) dressed as the Three Kings parade through the streets of cities and towns singing Christmas song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Santa visits in a special fairytale tram and gives the children a ride through the city, singing songs with them and sharing a basket full of sweet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7" descr="three_kings"/>
          <p:cNvPicPr/>
          <p:nvPr/>
        </p:nvPicPr>
        <p:blipFill>
          <a:blip r:embed="rId1"/>
          <a:stretch/>
        </p:blipFill>
        <p:spPr>
          <a:xfrm>
            <a:off x="5580000" y="1628640"/>
            <a:ext cx="2381400" cy="1847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Basket of Sweets"/>
          <p:cNvPicPr/>
          <p:nvPr/>
        </p:nvPicPr>
        <p:blipFill>
          <a:blip r:embed="rId2"/>
          <a:stretch/>
        </p:blipFill>
        <p:spPr>
          <a:xfrm>
            <a:off x="5580000" y="4005360"/>
            <a:ext cx="2160720" cy="2095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cc"/>
                </a:solidFill>
                <a:latin typeface="Tahoma"/>
              </a:rPr>
              <a:t>Mexic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In Mexico, children sometimes leave their shoes out instead of stockings. 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On Christmas Eve there is a parade of singers carrying bells and candles on top of long poles. They wind through the streets until they get to the local church. 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FELIZ NAVIDAD Y PROSPERO AÑO NUE VO!!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9" descr="red shoes - another angle"/>
          <p:cNvPicPr/>
          <p:nvPr/>
        </p:nvPicPr>
        <p:blipFill>
          <a:blip r:embed="rId1"/>
          <a:stretch/>
        </p:blipFill>
        <p:spPr>
          <a:xfrm>
            <a:off x="5292720" y="1628640"/>
            <a:ext cx="2879640" cy="1847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story"/>
          <p:cNvPicPr/>
          <p:nvPr/>
        </p:nvPicPr>
        <p:blipFill>
          <a:blip r:embed="rId2"/>
          <a:stretch/>
        </p:blipFill>
        <p:spPr>
          <a:xfrm>
            <a:off x="5364000" y="4005360"/>
            <a:ext cx="2735280" cy="208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Tahoma"/>
              </a:rPr>
              <a:t>Kenya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In Kenya, the churches are decorated with balloons, ribbons, flowers and green plants as well as Christmas trees. 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Christmas dinner is often a barbecue with family members traveling from far away to be together again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6" descr="greenplants1"/>
          <p:cNvPicPr/>
          <p:nvPr/>
        </p:nvPicPr>
        <p:blipFill>
          <a:blip r:embed="rId1"/>
          <a:stretch/>
        </p:blipFill>
        <p:spPr>
          <a:xfrm>
            <a:off x="5724360" y="1484280"/>
            <a:ext cx="1906920" cy="1995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barbeque"/>
          <p:cNvPicPr/>
          <p:nvPr/>
        </p:nvPicPr>
        <p:blipFill>
          <a:blip r:embed="rId2"/>
          <a:stretch/>
        </p:blipFill>
        <p:spPr>
          <a:xfrm>
            <a:off x="6084720" y="3789360"/>
            <a:ext cx="1428840" cy="1905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Tahoma"/>
              </a:rPr>
              <a:t>Norway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In Norway, on Christmas Eve, a bowl of porridge, "nisse" is left in the barn for the gnome who protects the farm. 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When the children first see their Christmas tree all decorated, with presents underneath, the family joins hands and circles the tree singing carols.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6" descr="Porridge, Ready to Eat"/>
          <p:cNvPicPr/>
          <p:nvPr/>
        </p:nvPicPr>
        <p:blipFill>
          <a:blip r:embed="rId1"/>
          <a:stretch/>
        </p:blipFill>
        <p:spPr>
          <a:xfrm>
            <a:off x="5508720" y="1773360"/>
            <a:ext cx="2592360" cy="1947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song"/>
          <p:cNvPicPr/>
          <p:nvPr/>
        </p:nvPicPr>
        <p:blipFill>
          <a:blip r:embed="rId2"/>
          <a:stretch/>
        </p:blipFill>
        <p:spPr>
          <a:xfrm>
            <a:off x="5651640" y="3860640"/>
            <a:ext cx="2305080" cy="2119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Tahoma"/>
              </a:rPr>
              <a:t>Germany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In Germany, children decorate their Christmas Lists with pictures and then leave them on the windowsill overnight, weighed down with a little sugar so they won't be missed by Father Christma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There is a flower in Germany called the Christmas Rose which blooms even in the snow and ic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Comic Sans MS"/>
              </a:rPr>
              <a:t>Frohes Weihnachtsfe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6" descr="window"/>
          <p:cNvPicPr/>
          <p:nvPr/>
        </p:nvPicPr>
        <p:blipFill>
          <a:blip r:embed="rId1"/>
          <a:stretch/>
        </p:blipFill>
        <p:spPr>
          <a:xfrm>
            <a:off x="4716360" y="10526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&lt;FONT SIZE=-1&gt;6111217&lt;/FONT&gt;&lt;BR&gt;Christmas Rose &lt;I&gt;Helleborus niger&lt;/I&gt;"/>
          <p:cNvPicPr/>
          <p:nvPr/>
        </p:nvPicPr>
        <p:blipFill>
          <a:blip r:embed="rId2"/>
          <a:stretch/>
        </p:blipFill>
        <p:spPr>
          <a:xfrm>
            <a:off x="5364000" y="3716280"/>
            <a:ext cx="1762200" cy="2349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Comic Sans MS"/>
              </a:rPr>
              <a:t>So why do a lot of people around the world give presents at Christmas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ost people think it relates to the three wise men bringing gifts to baby Jesus when he was bor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hristians believe it is more important to give a gift than to receive o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hat gift would you take to baby Jesu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5" descr="baby%20jesus%20&amp;%20bluebird"/>
          <p:cNvPicPr/>
          <p:nvPr/>
        </p:nvPicPr>
        <p:blipFill>
          <a:blip r:embed="rId1"/>
          <a:stretch/>
        </p:blipFill>
        <p:spPr>
          <a:xfrm>
            <a:off x="2843280" y="3860640"/>
            <a:ext cx="3168720" cy="2276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MPj04236920000[1]"/>
          <p:cNvPicPr/>
          <p:nvPr/>
        </p:nvPicPr>
        <p:blipFill>
          <a:blip r:embed="rId2"/>
          <a:stretch/>
        </p:blipFill>
        <p:spPr>
          <a:xfrm>
            <a:off x="611280" y="414972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MPj03847450000[1]"/>
          <p:cNvPicPr/>
          <p:nvPr/>
        </p:nvPicPr>
        <p:blipFill>
          <a:blip r:embed="rId3"/>
          <a:stretch/>
        </p:blipFill>
        <p:spPr>
          <a:xfrm>
            <a:off x="7093080" y="4149720"/>
            <a:ext cx="1476360" cy="1463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19:46:37Z</dcterms:created>
  <dc:creator>Nikki Watson-Paul</dc:creator>
  <dc:description/>
  <dc:language>en-US</dc:language>
  <cp:lastModifiedBy>Jacki Kratz</cp:lastModifiedBy>
  <dcterms:modified xsi:type="dcterms:W3CDTF">2011-11-30T13:55:47Z</dcterms:modified>
  <cp:revision>4</cp:revision>
  <dc:subject/>
  <dc:title>How is Christmas celebrated around the world?</dc:title>
</cp:coreProperties>
</file>